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5.png" ContentType="image/png"/>
  <Override PartName="/ppt/media/CAMERA.WAV" ContentType="audio/x-wav"/>
  <Override PartName="/ppt/media/image2.jpeg" ContentType="image/jpeg"/>
  <Override PartName="/ppt/media/image3.jpeg" ContentType="image/jpeg"/>
  <Override PartName="/ppt/media/image6.png" ContentType="image/png"/>
  <Override PartName="/ppt/media/image10.wmf" ContentType="image/x-wmf"/>
  <Override PartName="/ppt/media/image4.jpeg" ContentType="image/jpeg"/>
  <Override PartName="/ppt/media/image1.jpeg" ContentType="image/jpeg"/>
  <Override PartName="/ppt/media/image7.png" ContentType="image/png"/>
  <Override PartName="/ppt/media/image11.wmf" ContentType="image/x-wmf"/>
  <Override PartName="/ppt/media/image12.png" ContentType="image/png"/>
  <Override PartName="/ppt/media/image13.png" ContentType="image/png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B33D-C042-4E37-84C0-98C06B70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3CCE-6B6A-4793-8273-54746311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4CF6-0DB4-4824-8333-DBFF07D10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9B1E-609A-4A26-BEC8-5F72066B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12FA-D2DD-4BDA-A05A-DE27BE0AB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0D68-F8E3-4D82-9071-723DBD3F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F9FB-6722-4B1F-9E53-A47A204F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E2A1-C45E-4A18-8876-3EFF4032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62CD-3959-4042-85EC-1AA4A1C9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7B79-F78E-4887-A20A-907F9243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54BE-A182-441E-8E06-35A3FC8F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FC4A-0467-48F5-BDF5-6ED7A3AE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8C87-48FB-434C-B31C-FA7B266B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A101-C2DD-4716-AD4E-91657526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94D0-AD53-453B-BC2F-7F5782DE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7AE7-49D1-4465-BA81-2DB2E397B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F376-5303-4950-9254-ACFEDD4F4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5C89-41DD-4C1F-8B28-3500504A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D944-EA21-44DE-94D0-5A648A90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7169-9186-4019-B501-25810F2F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7786-2B66-49D8-A583-C0760322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D384-BD3E-4864-9380-5AA9D1EC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CCFD-E96A-489C-B275-11336AB1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8DBE-9616-4C40-88A7-0FA6BB5B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66FE-FF85-4472-8417-FCDC607B88D5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C768-0665-4DB8-A647-93E647D3220E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image" Target="../media/image1.jpeg"/><Relationship Id="rId6" Type="http://schemas.openxmlformats.org/officeDocument/2006/relationships/image" Target="../media/image3.jpeg"/><Relationship Id="rId7" Type="http://schemas.openxmlformats.org/officeDocument/2006/relationships/image" Target="../media/image2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pn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3640" y="280800"/>
            <a:ext cx="8569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TPOAR – Brasília – ABR/04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44400" y="1412640"/>
            <a:ext cx="80424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99ff99"/>
                </a:solidFill>
                <a:latin typeface="Tahoma"/>
              </a:rPr>
              <a:t>SISTEMA INTEGRADO DE MEIO AMBIENTE DO ESTADO DE MINAS GERA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0720"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pt-BR" sz="4000" spc="-1" strike="noStrike">
                <a:solidFill>
                  <a:srgbClr val="000000"/>
                </a:solidFill>
                <a:latin typeface="Tahoma"/>
              </a:rPr>
              <a:t>S I A M – M 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-36360" y="5635800"/>
            <a:ext cx="85690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0000"/>
                </a:solidFill>
                <a:latin typeface="Garamond"/>
              </a:rPr>
              <a:t>Divisão de Regulação e Controle</a:t>
            </a:r>
            <a:br>
              <a:rPr sz="2400"/>
            </a:br>
            <a:r>
              <a:rPr b="1" i="1" lang="pt-BR" sz="2400" spc="-1" strike="noStrike">
                <a:solidFill>
                  <a:srgbClr val="ff0000"/>
                </a:solidFill>
                <a:latin typeface="Garamond"/>
              </a:rPr>
              <a:t>Instituto Mineiro de Gestão das Águ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 rot="19488000">
            <a:off x="6659640" y="5516280"/>
            <a:ext cx="103824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DvRC</a:t>
            </a:r>
            <a:endParaRPr b="0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214" name=""/>
          <p:cNvSpPr txBox="1"/>
          <p:nvPr/>
        </p:nvSpPr>
        <p:spPr>
          <a:xfrm rot="19488000">
            <a:off x="7421400" y="5732280"/>
            <a:ext cx="1038240" cy="66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IGAM</a:t>
            </a:r>
            <a:endParaRPr b="0" i="1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762120" y="3124080"/>
            <a:ext cx="784836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62120" y="4343400"/>
            <a:ext cx="7886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 rot="19488000">
            <a:off x="6659640" y="5516280"/>
            <a:ext cx="103824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DvRC</a:t>
            </a:r>
            <a:endParaRPr b="0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340" name=""/>
          <p:cNvSpPr txBox="1"/>
          <p:nvPr/>
        </p:nvSpPr>
        <p:spPr>
          <a:xfrm rot="19488000">
            <a:off x="7421400" y="5732280"/>
            <a:ext cx="1038240" cy="66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IGAM</a:t>
            </a:r>
            <a:endParaRPr b="0" i="1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rcRect l="22880" t="950" r="22880" b="1792"/>
          <a:stretch/>
        </p:blipFill>
        <p:spPr>
          <a:xfrm>
            <a:off x="1233360" y="192240"/>
            <a:ext cx="5139000" cy="65498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376200" y="349200"/>
            <a:ext cx="11714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ff99">
                    <a:alpha val="50000"/>
                  </a:srgbClr>
                </a:solidFill>
                <a:latin typeface="Arial Black"/>
              </a:rPr>
              <a:t>FCE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ff99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43" name=""/>
          <p:cNvSpPr/>
          <p:nvPr/>
        </p:nvSpPr>
        <p:spPr>
          <a:xfrm>
            <a:off x="5294880" y="920880"/>
            <a:ext cx="3594240" cy="288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40" indent="-144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DENTIFICAÇÃO DO REQUER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908240" y="1701720"/>
            <a:ext cx="4124520" cy="288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40" indent="-144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DENTIFICAÇÃO DO EMPREENDIM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653800" y="3646440"/>
            <a:ext cx="2941920" cy="288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40" indent="-144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SO DE RECURSO HÍDR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10520" y="4365720"/>
            <a:ext cx="2883960" cy="288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40" indent="-144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XPLORAÇÃO FLORES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52720" y="4941720"/>
            <a:ext cx="1872360" cy="288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40" indent="-144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LICENCIAM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HISTÓRIC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7931160" cy="379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14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2000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– Programa Nacional de Meio Ambiente II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PNMA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2001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 Criação de Grupos de Trabalho PNMA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2002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 Seminários de Integração dos processos autorizativos e fiscalização (IGAM, FEAM e IE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2003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 Resolução SEMAD nº 146 (05/06/2003) Determina a implantação do sistema integr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 rot="19488000">
            <a:off x="6659640" y="5516280"/>
            <a:ext cx="103824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DvRC</a:t>
            </a:r>
            <a:endParaRPr b="0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218" name=""/>
          <p:cNvSpPr txBox="1"/>
          <p:nvPr/>
        </p:nvSpPr>
        <p:spPr>
          <a:xfrm rot="19488000">
            <a:off x="7421400" y="5732280"/>
            <a:ext cx="1038240" cy="66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IGAM</a:t>
            </a:r>
            <a:endParaRPr b="0" i="1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RESOLUÇÃO SEMAD - Nº 146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93116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81080" indent="-1800" algn="just">
              <a:spcBef>
                <a:spcPts val="13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entral de Atendimento SEMAD (“balcão único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81080" indent="-1800" algn="just">
              <a:spcBef>
                <a:spcPts val="13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O processo deve ser iniciado na entidade SEMAD responsável pelo licenciamento ambiental, quando houver, que também se responsabilizará pela distribuição dos processos para os demais órgãos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81080" indent="-1800" algn="just">
              <a:spcBef>
                <a:spcPts val="13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razo para manifestação </a:t>
            </a:r>
            <a:r>
              <a:rPr b="1" lang="pt-B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90 dias (Informações complementares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81080" indent="-1800" algn="just">
              <a:spcBef>
                <a:spcPts val="13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Fase LP </a:t>
            </a:r>
            <a:r>
              <a:rPr b="1" lang="pt-B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manifestação prévia IGAM e IEF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81080" indent="-1800" algn="just">
              <a:spcBef>
                <a:spcPts val="13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Outorgas </a:t>
            </a:r>
            <a:r>
              <a:rPr b="1" lang="pt-B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LI e LO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81080" indent="-1800" algn="just">
              <a:spcBef>
                <a:spcPts val="1375"/>
              </a:spcBef>
              <a:buClr>
                <a:srgbClr val="ff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razo integração: 1º de Dezembro 2003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81080" indent="0" algn="just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 rot="19488000">
            <a:off x="6659640" y="5516280"/>
            <a:ext cx="103824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DvRC</a:t>
            </a:r>
            <a:endParaRPr b="0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222" name=""/>
          <p:cNvSpPr txBox="1"/>
          <p:nvPr/>
        </p:nvSpPr>
        <p:spPr>
          <a:xfrm rot="19488000">
            <a:off x="7421400" y="5732280"/>
            <a:ext cx="1038240" cy="66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IGAM</a:t>
            </a:r>
            <a:endParaRPr b="0" i="1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 rot="17514600">
            <a:off x="1982520" y="3907800"/>
            <a:ext cx="1523880" cy="790560"/>
          </a:xfrm>
          <a:prstGeom prst="rightArrow">
            <a:avLst>
              <a:gd name="adj1" fmla="val 50000"/>
              <a:gd name="adj2" fmla="val 4819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Unicode MS"/>
              </a:rPr>
              <a:t>LICENÇ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9467600">
            <a:off x="4816440" y="1483920"/>
            <a:ext cx="1676520" cy="790560"/>
          </a:xfrm>
          <a:prstGeom prst="rightArrow">
            <a:avLst>
              <a:gd name="adj1" fmla="val 50000"/>
              <a:gd name="adj2" fmla="val 5301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Unicode MS"/>
              </a:rPr>
              <a:t>OUTORG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8906600">
            <a:off x="6644880" y="4227120"/>
            <a:ext cx="1523880" cy="790560"/>
          </a:xfrm>
          <a:prstGeom prst="rightArrow">
            <a:avLst>
              <a:gd name="adj1" fmla="val 50000"/>
              <a:gd name="adj2" fmla="val 4819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Unicode MS"/>
              </a:rPr>
              <a:t>LICENÇ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805800">
            <a:off x="2759040" y="5294160"/>
            <a:ext cx="1523880" cy="790560"/>
          </a:xfrm>
          <a:prstGeom prst="rightArrow">
            <a:avLst>
              <a:gd name="adj1" fmla="val 50000"/>
              <a:gd name="adj2" fmla="val 4819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Unicode MS"/>
              </a:rPr>
              <a:t>APE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82800" y="4913280"/>
            <a:ext cx="129528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537d4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00"/>
                </a:solidFill>
                <a:latin typeface="Arial"/>
              </a:rPr>
              <a:t>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92680" y="4913280"/>
            <a:ext cx="125748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17181" dir="2438368" blurRad="0" rotWithShape="0">
              <a:srgbClr val="a87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7000" y="2093760"/>
            <a:ext cx="129528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08e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G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3339200">
            <a:off x="6955560" y="5663520"/>
            <a:ext cx="4748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635280" y="3846600"/>
            <a:ext cx="1600200" cy="7617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008a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M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9149000">
            <a:off x="1393920" y="5675040"/>
            <a:ext cx="47448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5217600">
            <a:off x="4216680" y="1554840"/>
            <a:ext cx="474480" cy="485640"/>
          </a:xfrm>
          <a:prstGeom prst="rightArrow">
            <a:avLst>
              <a:gd name="adj1" fmla="val 50157"/>
              <a:gd name="adj2" fmla="val 2529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9134600">
            <a:off x="2954160" y="4456080"/>
            <a:ext cx="681120" cy="485640"/>
          </a:xfrm>
          <a:prstGeom prst="leftRightArrow">
            <a:avLst>
              <a:gd name="adj1" fmla="val 50000"/>
              <a:gd name="adj2" fmla="val 2792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6195800">
            <a:off x="4113720" y="3186720"/>
            <a:ext cx="681120" cy="485640"/>
          </a:xfrm>
          <a:prstGeom prst="leftRightArrow">
            <a:avLst>
              <a:gd name="adj1" fmla="val 50000"/>
              <a:gd name="adj2" fmla="val 2792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444400">
            <a:off x="5164200" y="4503240"/>
            <a:ext cx="681120" cy="486000"/>
          </a:xfrm>
          <a:prstGeom prst="leftRightArrow">
            <a:avLst>
              <a:gd name="adj1" fmla="val 50000"/>
              <a:gd name="adj2" fmla="val 279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70840" y="11286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REQUER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4280" y="615780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ADMINISTR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647760" y="614664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EMPREENDE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10480" y="18900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99ff99"/>
                </a:solidFill>
                <a:uFillTx/>
                <a:latin typeface="Arial"/>
              </a:rPr>
              <a:t>SITUAÇÃO ANTE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500"/>
                            </p:stCondLst>
                            <p:childTnLst>
                              <p:par>
                                <p:cTn id="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500"/>
                            </p:stCondLst>
                            <p:childTnLst>
                              <p:par>
                                <p:cTn id="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66720" y="0"/>
            <a:ext cx="794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95560" y="2362320"/>
            <a:ext cx="4724280" cy="3581280"/>
          </a:xfrm>
          <a:prstGeom prst="ellipse">
            <a:avLst/>
          </a:pr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66960" y="4952880"/>
            <a:ext cx="129528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537d4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00"/>
                </a:solidFill>
                <a:latin typeface="Arial"/>
              </a:rPr>
              <a:t>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76840" y="4952880"/>
            <a:ext cx="125748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17181" dir="2438368" blurRad="0" rotWithShape="0">
              <a:srgbClr val="a87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90800" y="2133720"/>
            <a:ext cx="129564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08e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G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3339200">
            <a:off x="6940080" y="5703480"/>
            <a:ext cx="47484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19440" y="3886200"/>
            <a:ext cx="1600200" cy="7621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008a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M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9149000">
            <a:off x="1378080" y="5714640"/>
            <a:ext cx="47448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217600">
            <a:off x="4200480" y="1594440"/>
            <a:ext cx="474840" cy="485640"/>
          </a:xfrm>
          <a:prstGeom prst="rightArrow">
            <a:avLst>
              <a:gd name="adj1" fmla="val 50157"/>
              <a:gd name="adj2" fmla="val 2529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9134600">
            <a:off x="2937960" y="4495320"/>
            <a:ext cx="681120" cy="486000"/>
          </a:xfrm>
          <a:prstGeom prst="leftRightArrow">
            <a:avLst>
              <a:gd name="adj1" fmla="val 50000"/>
              <a:gd name="adj2" fmla="val 279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6195800">
            <a:off x="4097880" y="3226320"/>
            <a:ext cx="680760" cy="485640"/>
          </a:xfrm>
          <a:prstGeom prst="leftRightArrow">
            <a:avLst>
              <a:gd name="adj1" fmla="val 50000"/>
              <a:gd name="adj2" fmla="val 2790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2444400">
            <a:off x="5148000" y="4543200"/>
            <a:ext cx="681120" cy="485640"/>
          </a:xfrm>
          <a:prstGeom prst="leftRightArrow">
            <a:avLst>
              <a:gd name="adj1" fmla="val 50000"/>
              <a:gd name="adj2" fmla="val 2792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45920" y="1168560"/>
            <a:ext cx="37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EMPREENDEDOR/REQUER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6880" y="6197760"/>
            <a:ext cx="37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EMPREENDEDOR/REQUER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08400" y="6186600"/>
            <a:ext cx="37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Arial"/>
              </a:rPr>
              <a:t>EMPREENDEDOR/REQUER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8284400">
            <a:off x="2011680" y="27597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55960" y="57913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7381800">
            <a:off x="2316600" y="32468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3258600">
            <a:off x="5697720" y="338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76560" y="5334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13957800">
            <a:off x="6020640" y="29847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2967800">
            <a:off x="3025440" y="3527280"/>
            <a:ext cx="681120" cy="486000"/>
          </a:xfrm>
          <a:prstGeom prst="leftRightArrow">
            <a:avLst>
              <a:gd name="adj1" fmla="val 50000"/>
              <a:gd name="adj2" fmla="val 279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6195800">
            <a:off x="4016880" y="4821840"/>
            <a:ext cx="681120" cy="485640"/>
          </a:xfrm>
          <a:prstGeom prst="leftRightArrow">
            <a:avLst>
              <a:gd name="adj1" fmla="val 50000"/>
              <a:gd name="adj2" fmla="val 2792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9653000">
            <a:off x="5262480" y="3657600"/>
            <a:ext cx="681120" cy="485640"/>
          </a:xfrm>
          <a:prstGeom prst="leftRightArrow">
            <a:avLst>
              <a:gd name="adj1" fmla="val 50000"/>
              <a:gd name="adj2" fmla="val 2792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38360" y="2997360"/>
            <a:ext cx="5791320" cy="2361960"/>
          </a:xfrm>
          <a:prstGeom prst="rightArrowCallout">
            <a:avLst>
              <a:gd name="adj1" fmla="val 25002"/>
              <a:gd name="adj2" fmla="val 25000"/>
              <a:gd name="adj3" fmla="val 40865"/>
              <a:gd name="adj4" fmla="val 66667"/>
            </a:avLst>
          </a:prstGeom>
          <a:gradFill rotWithShape="0">
            <a:gsLst>
              <a:gs pos="0">
                <a:srgbClr val="65a865"/>
              </a:gs>
              <a:gs pos="50000">
                <a:srgbClr val="99ff99"/>
              </a:gs>
              <a:gs pos="100000">
                <a:srgbClr val="65a865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ERTIFICADOS 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UTORIZAÇÕ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9360" y="189000"/>
            <a:ext cx="873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99ff99"/>
                </a:solidFill>
                <a:uFillTx/>
                <a:latin typeface="Arial"/>
              </a:rPr>
              <a:t>SISTEMA INTEGRADO DE MEIO AMBIENTE - SI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500"/>
                            </p:stCondLst>
                            <p:childTnLst>
                              <p:par>
                                <p:cTn id="1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 rot="12993600">
            <a:off x="5765400" y="5000400"/>
            <a:ext cx="808200" cy="485640"/>
          </a:xfrm>
          <a:prstGeom prst="rightArrow">
            <a:avLst>
              <a:gd name="adj1" fmla="val 50000"/>
              <a:gd name="adj2" fmla="val 4160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8251200">
            <a:off x="5812560" y="2589120"/>
            <a:ext cx="747720" cy="486000"/>
          </a:xfrm>
          <a:prstGeom prst="rightArrow">
            <a:avLst>
              <a:gd name="adj1" fmla="val 50000"/>
              <a:gd name="adj2" fmla="val 3846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2386200">
            <a:off x="2590920" y="2596680"/>
            <a:ext cx="761760" cy="486000"/>
          </a:xfrm>
          <a:prstGeom prst="rightArrow">
            <a:avLst>
              <a:gd name="adj1" fmla="val 50000"/>
              <a:gd name="adj2" fmla="val 3918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19684800">
            <a:off x="2734920" y="5087880"/>
            <a:ext cx="752400" cy="486000"/>
          </a:xfrm>
          <a:prstGeom prst="rightArrow">
            <a:avLst>
              <a:gd name="adj1" fmla="val 50000"/>
              <a:gd name="adj2" fmla="val 3870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57520" y="2971800"/>
            <a:ext cx="2057400" cy="2209680"/>
          </a:xfrm>
          <a:prstGeom prst="flowChartMagneticDisk">
            <a:avLst/>
          </a:prstGeom>
          <a:gradFill rotWithShape="0">
            <a:gsLst>
              <a:gs pos="0">
                <a:srgbClr val="979665"/>
              </a:gs>
              <a:gs pos="50000">
                <a:srgbClr val="c8c686"/>
              </a:gs>
              <a:gs pos="100000">
                <a:srgbClr val="9796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67360" y="30481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86120" y="3745080"/>
            <a:ext cx="914400" cy="380880"/>
          </a:xfrm>
          <a:prstGeom prst="flowChartAlternateProcess">
            <a:avLst/>
          </a:prstGeom>
          <a:gradFill rotWithShape="0">
            <a:gsLst>
              <a:gs pos="0">
                <a:srgbClr val="755e5e"/>
              </a:gs>
              <a:gs pos="50000">
                <a:srgbClr val="ffcccc"/>
              </a:gs>
              <a:gs pos="100000">
                <a:srgbClr val="755e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População urbana atendida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por sistema de disposição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de lixo, com LO do COPAM.</a:t>
            </a:r>
            <a:r>
              <a:rPr b="1" lang="pt-PT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700520" y="3745080"/>
            <a:ext cx="762120" cy="720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8ae8"/>
            </a:outerShdw>
          </a:effectLst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395960" y="4248000"/>
            <a:ext cx="990360" cy="628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graphicFrame>
        <p:nvGraphicFramePr>
          <p:cNvPr id="276" name=""/>
          <p:cNvGraphicFramePr/>
          <p:nvPr/>
        </p:nvGraphicFramePr>
        <p:xfrm>
          <a:off x="3862440" y="4202280"/>
          <a:ext cx="838080" cy="75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62440" y="4202280"/>
                    <a:ext cx="838080" cy="7506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8ae8"/>
                    </a:outerShdw>
                  </a:effectLst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1042920" y="1600200"/>
            <a:ext cx="1905120" cy="13716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537d4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00"/>
                </a:solidFill>
                <a:latin typeface="Arial"/>
              </a:rPr>
              <a:t>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ff00"/>
                </a:solidFill>
                <a:latin typeface="Arial"/>
              </a:rPr>
              <a:t>Licencia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ff00"/>
                </a:solidFill>
                <a:latin typeface="Arial"/>
              </a:rPr>
              <a:t>APE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48440" y="1600200"/>
            <a:ext cx="1905120" cy="12952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08e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G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Outor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148440" y="5181480"/>
            <a:ext cx="2057400" cy="13716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17181" dir="2438368" blurRad="0" rotWithShape="0">
              <a:srgbClr val="a87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icencia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19240" y="5181480"/>
            <a:ext cx="1905120" cy="12956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8c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M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G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9360" y="189000"/>
            <a:ext cx="873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99ff99"/>
                </a:solidFill>
                <a:uFillTx/>
                <a:latin typeface="Arial"/>
              </a:rPr>
              <a:t>SISTEMA INTEGRADO DE MEIO AMBIENTE - SI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086280" y="1341360"/>
            <a:ext cx="3073320" cy="962280"/>
          </a:xfrm>
          <a:prstGeom prst="ellipse">
            <a:avLst/>
          </a:prstGeom>
          <a:gradFill rotWithShape="0">
            <a:gsLst>
              <a:gs pos="0">
                <a:srgbClr val="752f5e"/>
              </a:gs>
              <a:gs pos="50000">
                <a:srgbClr val="ff66cc"/>
              </a:gs>
              <a:gs pos="100000">
                <a:srgbClr val="752f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DASTRAMEN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 ORIENT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43240" y="2590920"/>
            <a:ext cx="2757600" cy="969840"/>
          </a:xfrm>
          <a:prstGeom prst="ellipse">
            <a:avLst/>
          </a:prstGeom>
          <a:gradFill rotWithShape="0">
            <a:gsLst>
              <a:gs pos="0">
                <a:srgbClr val="43a821"/>
              </a:gs>
              <a:gs pos="50000">
                <a:srgbClr val="66ff33"/>
              </a:gs>
              <a:gs pos="100000">
                <a:srgbClr val="43a82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ORMALIZ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 DISTRIBUI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763800" y="3860640"/>
            <a:ext cx="1717920" cy="503280"/>
          </a:xfrm>
          <a:prstGeom prst="ellipse">
            <a:avLst/>
          </a:prstGeom>
          <a:gradFill rotWithShape="0">
            <a:gsLst>
              <a:gs pos="0">
                <a:srgbClr val="43a8a8"/>
              </a:gs>
              <a:gs pos="50000">
                <a:srgbClr val="66ffff"/>
              </a:gs>
              <a:gs pos="100000">
                <a:srgbClr val="43a8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NÁLI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673440" y="4653000"/>
            <a:ext cx="1897200" cy="504720"/>
          </a:xfrm>
          <a:prstGeom prst="ellipse">
            <a:avLst/>
          </a:prstGeom>
          <a:gradFill rotWithShape="0">
            <a:gsLst>
              <a:gs pos="0">
                <a:srgbClr val="9ba878"/>
              </a:gs>
              <a:gs pos="50000">
                <a:srgbClr val="ecffb7"/>
              </a:gs>
              <a:gs pos="100000">
                <a:srgbClr val="9ba87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CIS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21320" y="230364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21320" y="357336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21320" y="436572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MÓDULOS SIAM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6561720" y="5278680"/>
            <a:ext cx="1996200" cy="1361520"/>
            <a:chOff x="6561720" y="5278680"/>
            <a:chExt cx="1996200" cy="1361520"/>
          </a:xfrm>
        </p:grpSpPr>
        <p:sp>
          <p:nvSpPr>
            <p:cNvPr id="292" name=""/>
            <p:cNvSpPr txBox="1"/>
            <p:nvPr/>
          </p:nvSpPr>
          <p:spPr>
            <a:xfrm rot="19488000">
              <a:off x="6659640" y="5516280"/>
              <a:ext cx="1038240" cy="669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UpPour">
                <a:avLst>
                  <a:gd name="adj1" fmla="val 10800000"/>
                  <a:gd name="adj2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afe1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Unicode MS"/>
                </a:rPr>
                <a:t>DvRC</a:t>
              </a:r>
              <a:endParaRPr b="0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  <a:ea typeface="Arial Unicode MS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 rot="19488000">
              <a:off x="7421400" y="5732280"/>
              <a:ext cx="1038240" cy="669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ArchDownPour">
                <a:avLst>
                  <a:gd name="adj1" fmla="val 0"/>
                  <a:gd name="adj2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1" strike="noStrike">
                  <a:ln w="9360">
                    <a:solidFill>
                      <a:srgbClr val="afe1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Unicode MS"/>
                </a:rPr>
                <a:t>IGAM</a:t>
              </a:r>
              <a:endParaRPr b="0" i="1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  <a:ea typeface="Arial Unicode MS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1491840" y="1533600"/>
            <a:ext cx="991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40" indent="-1440">
              <a:lnSpc>
                <a:spcPct val="8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CE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63880" y="1533600"/>
            <a:ext cx="10310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440" indent="-1440">
              <a:lnSpc>
                <a:spcPct val="8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FOB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484360" y="174960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08560" y="174960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78400" y="5445000"/>
            <a:ext cx="2087280" cy="6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UBLICAÇÕ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22760" y="515772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990720" y="3500280"/>
            <a:ext cx="761976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ntrais de Orientação Virtuai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ntral de Digitalizaçã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ra – estrutur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gração de Banco de Dado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einamento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mpanha de Comunicaçã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 rot="19488000">
            <a:off x="6659640" y="5516280"/>
            <a:ext cx="103824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DvRC</a:t>
            </a:r>
            <a:endParaRPr b="0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302" name=""/>
          <p:cNvSpPr txBox="1"/>
          <p:nvPr/>
        </p:nvSpPr>
        <p:spPr>
          <a:xfrm rot="19488000">
            <a:off x="7421400" y="5732280"/>
            <a:ext cx="1038240" cy="66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IGAM</a:t>
            </a:r>
            <a:endParaRPr b="0" i="1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2565000"/>
            <a:ext cx="878544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REQUISIT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79280" y="115920"/>
            <a:ext cx="878544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PRODU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6600" y="907560"/>
            <a:ext cx="7930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>
              <a:spcBef>
                <a:spcPts val="1500"/>
              </a:spcBef>
              <a:buClr>
                <a:srgbClr val="ff0000"/>
              </a:buClr>
              <a:buSzPct val="5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CEI e FOBI eletrônicos, em agosto de 2003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79280">
              <a:spcBef>
                <a:spcPts val="1500"/>
              </a:spcBef>
              <a:buClr>
                <a:srgbClr val="ff0000"/>
              </a:buClr>
              <a:buSzPct val="5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stema Integrado Licenciamento, em outubro de 2003 </a:t>
            </a:r>
            <a:r>
              <a:rPr b="1" lang="pt-B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Licença + APEF + Outor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 rot="19488000">
            <a:off x="6432480" y="5516280"/>
            <a:ext cx="103824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DvRC</a:t>
            </a:r>
            <a:endParaRPr b="0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307" name=""/>
          <p:cNvSpPr txBox="1"/>
          <p:nvPr/>
        </p:nvSpPr>
        <p:spPr>
          <a:xfrm rot="19488000">
            <a:off x="7194600" y="5732280"/>
            <a:ext cx="1038240" cy="66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afe1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IGAM</a:t>
            </a:r>
            <a:endParaRPr b="0" i="1" lang="en-US" sz="2800" spc="1" strike="noStrike">
              <a:ln w="9360">
                <a:solidFill>
                  <a:srgbClr val="afe1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611280" y="2057400"/>
            <a:ext cx="1681200" cy="9874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 rot="10906200">
            <a:off x="991800" y="1599480"/>
            <a:ext cx="1155600" cy="444600"/>
          </a:xfrm>
          <a:custGeom>
            <a:avLst/>
            <a:gdLst>
              <a:gd name="textAreaLeft" fmla="*/ 201960 w 1155600"/>
              <a:gd name="textAreaRight" fmla="*/ 837720 w 1155600"/>
              <a:gd name="textAreaTop" fmla="*/ 59400 h 444600"/>
              <a:gd name="textAreaBottom" fmla="*/ 385200 h 44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836360" y="1579680"/>
            <a:ext cx="805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 Unicode MS"/>
              </a:rPr>
              <a:t>FCEI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15840" y="2924280"/>
            <a:ext cx="1138320" cy="504720"/>
          </a:xfrm>
          <a:custGeom>
            <a:avLst/>
            <a:gdLst>
              <a:gd name="textAreaLeft" fmla="*/ 199080 w 1138320"/>
              <a:gd name="textAreaRight" fmla="*/ 825480 w 113832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357200" y="3124080"/>
            <a:ext cx="10828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pt-BR" sz="2300" spc="-1" strike="noStrike">
                <a:solidFill>
                  <a:srgbClr val="000000"/>
                </a:solidFill>
                <a:latin typeface="Arial Unicode MS"/>
              </a:rPr>
              <a:t>FOBI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16040" y="24382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193920" y="1676520"/>
            <a:ext cx="549360" cy="609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5024520" y="1143000"/>
            <a:ext cx="1149120" cy="7621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5024520" y="2133720"/>
            <a:ext cx="1225440" cy="8125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5"/>
          <a:stretch/>
        </p:blipFill>
        <p:spPr>
          <a:xfrm>
            <a:off x="4948200" y="3276720"/>
            <a:ext cx="1301760" cy="8636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6"/>
          <a:stretch/>
        </p:blipFill>
        <p:spPr>
          <a:xfrm>
            <a:off x="3049560" y="2895480"/>
            <a:ext cx="773280" cy="6937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3281760" y="2514600"/>
            <a:ext cx="348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6d6a00"/>
                </a:solidFill>
                <a:latin typeface="Arial Unicode MS"/>
              </a:rPr>
              <a:t>+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21160" y="1600200"/>
            <a:ext cx="380880" cy="2209680"/>
          </a:xfrm>
          <a:custGeom>
            <a:avLst/>
            <a:gdLst>
              <a:gd name="textAreaLeft" fmla="*/ 243360 w 380880"/>
              <a:gd name="textAreaRight" fmla="*/ 381240 w 3808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707160" y="1835280"/>
            <a:ext cx="1981080" cy="52020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Unicode MS"/>
              </a:rPr>
              <a:t>INFORMAÇÕ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Unicode MS"/>
              </a:rPr>
              <a:t>COMPLEMENTA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707160" y="3048120"/>
            <a:ext cx="1981080" cy="59616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Unicode MS"/>
              </a:rPr>
              <a:t>CONDICIONAN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Documents"/>
          <p:cNvSpPr/>
          <p:nvPr/>
        </p:nvSpPr>
        <p:spPr>
          <a:xfrm>
            <a:off x="3430440" y="1828800"/>
            <a:ext cx="447840" cy="6094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7"/>
          <a:stretch/>
        </p:blipFill>
        <p:spPr>
          <a:xfrm>
            <a:off x="3025800" y="1905120"/>
            <a:ext cx="611280" cy="6858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 rot="10800000">
            <a:off x="6326280" y="1600200"/>
            <a:ext cx="380880" cy="2209680"/>
          </a:xfrm>
          <a:custGeom>
            <a:avLst/>
            <a:gdLst>
              <a:gd name="textAreaLeft" fmla="*/ 243360 w 380880"/>
              <a:gd name="textAreaRight" fmla="*/ 381240 w 3808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30720" y="1757520"/>
            <a:ext cx="9838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 Black"/>
              </a:rPr>
              <a:t>IGAM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53120" y="2819520"/>
            <a:ext cx="990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 Black"/>
              </a:rPr>
              <a:t>IEF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232240" y="3981600"/>
            <a:ext cx="982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 Black"/>
              </a:rPr>
              <a:t>FEAM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68680" y="4211640"/>
            <a:ext cx="1523880" cy="59616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Unicode MS"/>
              </a:rPr>
              <a:t>PUBLICAÇÕ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16040" y="1125360"/>
            <a:ext cx="1981440" cy="59616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Unicode MS"/>
              </a:rPr>
              <a:t>PROCESSO SEM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25880" y="4419720"/>
            <a:ext cx="14763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30440" y="5181480"/>
            <a:ext cx="4572000" cy="65664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 Unicode MS"/>
              </a:rPr>
              <a:t>LICENCIAMENTO AMBIENTAL INTEGR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040280" y="6172200"/>
            <a:ext cx="3200400" cy="59616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 Unicode MS"/>
              </a:rPr>
              <a:t>LICENÇAS, APEF E OUTORG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49560" y="3733920"/>
            <a:ext cx="79056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59240" y="5715000"/>
            <a:ext cx="79056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79280" y="115920"/>
            <a:ext cx="878544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FLUX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5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3T19:05:33Z</dcterms:created>
  <dc:creator>ASCOM</dc:creator>
  <dc:description/>
  <dc:language>en-US</dc:language>
  <cp:lastModifiedBy>dico-outorga</cp:lastModifiedBy>
  <dcterms:modified xsi:type="dcterms:W3CDTF">2004-04-28T19:45:29Z</dcterms:modified>
  <cp:revision>133</cp:revision>
  <dc:subject/>
  <dc:title>Apresentação do PowerPoint</dc:title>
</cp:coreProperties>
</file>